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E702-F775-4ABE-857C-6DEABD2F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B31F-5581-4B14-94AE-00AF7D40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C941-6D5F-4FEC-8042-F203F80E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315F-322B-4484-AFF6-53FB9B67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5E8C-56CE-4E23-918E-7888A50C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29BF-7B7D-4824-9710-18FBCC6B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7C3E-3347-4A23-816C-57F84851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B7EF-DCEB-4D57-A3F5-356F099F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C2DB-04BD-4DF1-BF43-DF3CC903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87F8-4262-40DA-968B-842FCBDA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2416-C2F1-45DC-ADD2-12457467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94B4-0DDD-47E3-927A-27ADFA66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089B-D6AC-4AE6-80D2-FC3051EE2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0:37:40Z</dcterms:created>
  <dc:creator>Grupo Editorial</dc:creator>
  <dc:description/>
  <dc:language>en-US</dc:language>
  <cp:lastModifiedBy>Grupo Editorial</cp:lastModifiedBy>
  <dcterms:modified xsi:type="dcterms:W3CDTF">2001-11-13T10:41:29Z</dcterms:modified>
  <cp:revision>1</cp:revision>
  <dc:subject/>
  <dc:title>Sin título de diapositiva</dc:title>
</cp:coreProperties>
</file>